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CD7E-0FA5-4862-98AE-68A07BB99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8CD6-007E-4A98-B5A4-44CE711F6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82B8-7866-4898-9F2B-40F5D669F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3ED2-E69A-4C5D-A413-947B7ECFD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E896-46A0-49D4-ABCB-43918933F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BB7F-9223-45E6-A684-815842A51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9504-EBD6-4B5B-98E1-79011C8C5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A57F-4332-45C5-878D-550DFE596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C5D3-B03C-483F-A19E-EDD166857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46EA-5164-4D9F-B468-AA4A03C73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6D45-A705-4CB2-B4ED-C1DE16A79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5925-3EC3-48B5-8909-0F0BCED91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B9DBA1-65AD-4AEA-8D5B-3CB6A067CFA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NEO 2 – CW 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25360"/>
            <a:ext cx="525600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125360"/>
            <a:ext cx="331308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0560" y="1197000"/>
            <a:ext cx="3912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 an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tual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4880" y="1197000"/>
            <a:ext cx="2667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xt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1628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280" y="2077920"/>
            <a:ext cx="494172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1 decla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W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W (and ST) due to RIM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tatus very critical for NEO at 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scalation to MP board and CEO of 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ctual planning for EDS: 61K at 24.9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 Board and A1 Wing Board available and Service mode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349360"/>
            <a:ext cx="295272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M technical workshop and decision how to proceed with 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mechanical data to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1 Prototype /w servic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30T07:51:38Z</dcterms:modified>
  <cp:revision>98</cp:revision>
  <dc:subject/>
  <dc:title>No Slide Title</dc:title>
</cp:coreProperties>
</file>